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10143C-BFBA-49C8-9A9F-938F89761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1B8C18-9F36-44BD-A680-A8361A030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EDA7-89C5-4CD8-B4CA-F9780B1C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BC5B-9166-48CD-8FC0-6B56B399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96E9-8511-4653-B6E7-08491D81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D1AB-C2E4-4091-B098-26485DB8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143-4EEC-42AD-BC7F-433D1E33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F5D8-A538-4A1E-BEAB-649991EE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E470-997C-45CF-B89E-89A6A00A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FC2A-43B5-4336-8EA9-B069215D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F401-85C6-4DC4-A07A-0DC62862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034F-CAD5-4BE6-9D8F-55F6B545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5E1A-CFF7-43BE-B6D0-1AB796B8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130D-BC02-4180-9FD7-2AB1484A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05921-4895-4D5C-AF32-37BE38896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5943600" y="457200"/>
            <a:ext cx="2746440" cy="6019920"/>
          </a:xfrm>
          <a:prstGeom prst="rect">
            <a:avLst/>
          </a:prstGeom>
          <a:solidFill>
            <a:srgbClr val="4f81b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Data Model (NetCDF- Jav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095880" y="1143000"/>
            <a:ext cx="2449800" cy="19810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Point Timese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NetCDF-CF, SOS, WFS, JDB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CMs to climate s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eamflow/Qu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6095880" y="5246640"/>
            <a:ext cx="2449800" cy="10778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id static (WC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DEM, Soils,   Landc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095880" y="3219480"/>
            <a:ext cx="2449800" cy="1917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Grid Timese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OpenDA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wnscaled GC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orological Observations and predic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3200400" y="2476440"/>
            <a:ext cx="2057400" cy="2362320"/>
          </a:xfrm>
          <a:prstGeom prst="rect">
            <a:avLst/>
          </a:prstGeom>
          <a:solidFill>
            <a:srgbClr val="ff7f6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o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 Serv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20"/>
          <p:cNvCxnSpPr>
            <a:endCxn id="52" idx="3"/>
          </p:cNvCxnSpPr>
          <p:nvPr/>
        </p:nvCxnSpPr>
        <p:spPr>
          <a:xfrm flipH="1" flipV="1">
            <a:off x="5257800" y="3657600"/>
            <a:ext cx="685800" cy="18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Rectangle 24"/>
          <p:cNvSpPr/>
          <p:nvPr/>
        </p:nvSpPr>
        <p:spPr>
          <a:xfrm>
            <a:off x="3352680" y="3238560"/>
            <a:ext cx="1752840" cy="609480"/>
          </a:xfrm>
          <a:prstGeom prst="rect">
            <a:avLst/>
          </a:prstGeom>
          <a:solidFill>
            <a:srgbClr val="4f81b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rieve, Subs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5"/>
          <p:cNvSpPr/>
          <p:nvPr/>
        </p:nvSpPr>
        <p:spPr>
          <a:xfrm>
            <a:off x="3352680" y="3924360"/>
            <a:ext cx="1752840" cy="762120"/>
          </a:xfrm>
          <a:prstGeom prst="rect">
            <a:avLst/>
          </a:prstGeom>
          <a:solidFill>
            <a:srgbClr val="4f81b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gregate, summar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Rectangle 27" descr=""/>
          <p:cNvPicPr/>
          <p:nvPr/>
        </p:nvPicPr>
        <p:blipFill>
          <a:blip r:embed="rId1"/>
          <a:stretch/>
        </p:blipFill>
        <p:spPr>
          <a:xfrm>
            <a:off x="-189000" y="-92160"/>
            <a:ext cx="3840120" cy="2408400"/>
          </a:xfrm>
          <a:prstGeom prst="rect">
            <a:avLst/>
          </a:prstGeom>
          <a:ln w="0">
            <a:noFill/>
          </a:ln>
        </p:spPr>
      </p:pic>
      <p:cxnSp>
        <p:nvCxnSpPr>
          <p:cNvPr id="57" name="Straight Arrow Connector 36"/>
          <p:cNvCxnSpPr>
            <a:stCxn id="52" idx="1"/>
            <a:endCxn id="58" idx="3"/>
          </p:cNvCxnSpPr>
          <p:nvPr/>
        </p:nvCxnSpPr>
        <p:spPr>
          <a:xfrm flipH="1" flipV="1">
            <a:off x="2438280" y="3052800"/>
            <a:ext cx="762480" cy="60516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Folded Corner 39"/>
          <p:cNvSpPr/>
          <p:nvPr/>
        </p:nvSpPr>
        <p:spPr>
          <a:xfrm>
            <a:off x="609480" y="2695680"/>
            <a:ext cx="1828800" cy="714240"/>
          </a:xfrm>
          <a:prstGeom prst="foldedCorner">
            <a:avLst>
              <a:gd name="adj" fmla="val 16666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matted model inpu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lded Corner 43"/>
          <p:cNvSpPr/>
          <p:nvPr/>
        </p:nvSpPr>
        <p:spPr>
          <a:xfrm>
            <a:off x="2924280" y="876240"/>
            <a:ext cx="2590560" cy="1067040"/>
          </a:xfrm>
          <a:prstGeom prst="foldedCorner">
            <a:avLst>
              <a:gd name="adj" fmla="val 16666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ling extent(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WFS, Shpfile, other servi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Straight Arrow Connector 47"/>
          <p:cNvCxnSpPr>
            <a:stCxn id="59" idx="2"/>
            <a:endCxn id="52" idx="0"/>
          </p:cNvCxnSpPr>
          <p:nvPr/>
        </p:nvCxnSpPr>
        <p:spPr>
          <a:xfrm>
            <a:off x="4219560" y="1943280"/>
            <a:ext cx="9720" cy="53352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1" name="Picture 14" descr=""/>
          <p:cNvPicPr/>
          <p:nvPr/>
        </p:nvPicPr>
        <p:blipFill>
          <a:blip r:embed="rId2"/>
          <a:stretch/>
        </p:blipFill>
        <p:spPr>
          <a:xfrm>
            <a:off x="655560" y="5508720"/>
            <a:ext cx="1828800" cy="73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3"/>
          <a:stretch/>
        </p:blipFill>
        <p:spPr>
          <a:xfrm>
            <a:off x="3200400" y="5348160"/>
            <a:ext cx="1752480" cy="976320"/>
          </a:xfrm>
          <a:prstGeom prst="rect">
            <a:avLst/>
          </a:prstGeom>
          <a:ln w="0">
            <a:noFill/>
          </a:ln>
        </p:spPr>
      </p:pic>
      <p:sp>
        <p:nvSpPr>
          <p:cNvPr id="63" name="Folded Corner 39"/>
          <p:cNvSpPr/>
          <p:nvPr/>
        </p:nvSpPr>
        <p:spPr>
          <a:xfrm>
            <a:off x="609480" y="3848040"/>
            <a:ext cx="1828800" cy="714600"/>
          </a:xfrm>
          <a:prstGeom prst="foldedCorner">
            <a:avLst>
              <a:gd name="adj" fmla="val 16666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rther Web Process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Straight Arrow Connector 36"/>
          <p:cNvCxnSpPr>
            <a:stCxn id="52" idx="1"/>
          </p:cNvCxnSpPr>
          <p:nvPr/>
        </p:nvCxnSpPr>
        <p:spPr>
          <a:xfrm flipH="1">
            <a:off x="2437560" y="3657600"/>
            <a:ext cx="763200" cy="5760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466560" y="1077840"/>
            <a:ext cx="7672680" cy="134136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age data relationships and group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ow interdisciplinary groups to share project inputs and outpu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 standards base, flexible design to accommodate any standar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Rectangle 12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7686720" cy="75060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13" descr=""/>
          <p:cNvPicPr/>
          <p:nvPr/>
        </p:nvPicPr>
        <p:blipFill>
          <a:blip r:embed="rId2"/>
          <a:stretch/>
        </p:blipFill>
        <p:spPr>
          <a:xfrm>
            <a:off x="1682640" y="1060560"/>
            <a:ext cx="6540480" cy="530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4"/>
          <p:cNvSpPr/>
          <p:nvPr/>
        </p:nvSpPr>
        <p:spPr>
          <a:xfrm>
            <a:off x="466560" y="2419200"/>
            <a:ext cx="7672680" cy="13399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ometry upload to WFS and/or interactive analysis zone cre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alysis-zone available-attribute-types and group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source metadata (spatiotemporal availability, data types, etc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Rectangle 15" descr=""/>
          <p:cNvPicPr/>
          <p:nvPr/>
        </p:nvPicPr>
        <p:blipFill>
          <a:blip r:embed="rId3"/>
          <a:stretch/>
        </p:blipFill>
        <p:spPr>
          <a:xfrm>
            <a:off x="1841400" y="2401920"/>
            <a:ext cx="6467400" cy="5302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6"/>
          <p:cNvSpPr/>
          <p:nvPr/>
        </p:nvSpPr>
        <p:spPr>
          <a:xfrm>
            <a:off x="466560" y="3759120"/>
            <a:ext cx="7672680" cy="104940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 series modification and processing tool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at and encoding conversion to “model ready formats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Rectangle 17" descr=""/>
          <p:cNvPicPr/>
          <p:nvPr/>
        </p:nvPicPr>
        <p:blipFill>
          <a:blip r:embed="rId4"/>
          <a:stretch/>
        </p:blipFill>
        <p:spPr>
          <a:xfrm>
            <a:off x="1841400" y="3743280"/>
            <a:ext cx="6381720" cy="530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"/>
          <p:cNvPicPr/>
          <p:nvPr/>
        </p:nvPicPr>
        <p:blipFill>
          <a:blip r:embed="rId5"/>
          <a:stretch/>
        </p:blipFill>
        <p:spPr>
          <a:xfrm>
            <a:off x="2087640" y="5565600"/>
            <a:ext cx="1828800" cy="739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" descr=""/>
          <p:cNvPicPr/>
          <p:nvPr/>
        </p:nvPicPr>
        <p:blipFill>
          <a:blip r:embed="rId6"/>
          <a:stretch/>
        </p:blipFill>
        <p:spPr>
          <a:xfrm>
            <a:off x="4784760" y="5316480"/>
            <a:ext cx="17524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72960" y="900000"/>
          <a:ext cx="7543800" cy="459288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2563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1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Meteorolo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63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iver Forecasting Center's Multisensor Precipitation Estim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66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rth American Regional Reanalysis 32km Gridded Da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63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km Gridded Meteorological Observations from Climate Change Commun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66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ational Solar Radiation Datab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96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ISM Parameter-Elevation Regression on independent Slopes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ownscaled climate models, NCEP models, many real time radar products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63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66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ational Land Cover Data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m National Elevation Data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63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ertically Averaged SSURGO on a 90m National Gri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66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63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66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AA Great Lakes Coastal Forecasting System and Bathyme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63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itle 1"/>
          <p:cNvSpPr/>
          <p:nvPr/>
        </p:nvSpPr>
        <p:spPr>
          <a:xfrm>
            <a:off x="2362320" y="152280"/>
            <a:ext cx="632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ome Datasets of Inter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651040" y="5791320"/>
            <a:ext cx="1130400" cy="520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5127480" y="5573880"/>
            <a:ext cx="95256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3"/>
          <a:stretch/>
        </p:blipFill>
        <p:spPr>
          <a:xfrm>
            <a:off x="4038480" y="6510240"/>
            <a:ext cx="4953240" cy="26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4"/>
          <a:stretch/>
        </p:blipFill>
        <p:spPr>
          <a:xfrm>
            <a:off x="6324480" y="5791320"/>
            <a:ext cx="2362320" cy="495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5"/>
          <a:stretch/>
        </p:blipFill>
        <p:spPr>
          <a:xfrm>
            <a:off x="2498760" y="6411960"/>
            <a:ext cx="1396800" cy="38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"/>
          <p:cNvPicPr/>
          <p:nvPr/>
        </p:nvPicPr>
        <p:blipFill>
          <a:blip r:embed="rId6"/>
          <a:stretch/>
        </p:blipFill>
        <p:spPr>
          <a:xfrm>
            <a:off x="4062240" y="55958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Screen shot 2010-11-04 at 7.02.18 AM.png"/>
          <p:cNvPicPr/>
          <p:nvPr/>
        </p:nvPicPr>
        <p:blipFill>
          <a:blip r:embed="rId1"/>
          <a:stretch/>
        </p:blipFill>
        <p:spPr>
          <a:xfrm>
            <a:off x="0" y="0"/>
            <a:ext cx="6238800" cy="4756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Screen shot 2010-07-08 at 8.11.31 AM.png"/>
          <p:cNvPicPr/>
          <p:nvPr/>
        </p:nvPicPr>
        <p:blipFill>
          <a:blip r:embed="rId2"/>
          <a:stretch/>
        </p:blipFill>
        <p:spPr>
          <a:xfrm>
            <a:off x="3645000" y="2695680"/>
            <a:ext cx="54990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Screen shot 2010-07-08 at 8.20.00 AM.png"/>
          <p:cNvPicPr/>
          <p:nvPr/>
        </p:nvPicPr>
        <p:blipFill>
          <a:blip r:embed="rId1"/>
          <a:stretch/>
        </p:blipFill>
        <p:spPr>
          <a:xfrm>
            <a:off x="0" y="0"/>
            <a:ext cx="4856040" cy="3732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Screen shot 2010-07-08 at 8.13.40 AM.png"/>
          <p:cNvPicPr/>
          <p:nvPr/>
        </p:nvPicPr>
        <p:blipFill>
          <a:blip r:embed="rId2"/>
          <a:stretch/>
        </p:blipFill>
        <p:spPr>
          <a:xfrm>
            <a:off x="0" y="2884320"/>
            <a:ext cx="4586400" cy="3973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Screen shot 2010-07-08 at 8.20.46 AM.png"/>
          <p:cNvPicPr/>
          <p:nvPr/>
        </p:nvPicPr>
        <p:blipFill>
          <a:blip r:embed="rId3"/>
          <a:stretch/>
        </p:blipFill>
        <p:spPr>
          <a:xfrm>
            <a:off x="4467240" y="399960"/>
            <a:ext cx="4676760" cy="3610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Screen shot 2010-07-08 at 8.21.14 AM.png"/>
          <p:cNvPicPr/>
          <p:nvPr/>
        </p:nvPicPr>
        <p:blipFill>
          <a:blip r:embed="rId4"/>
          <a:stretch/>
        </p:blipFill>
        <p:spPr>
          <a:xfrm>
            <a:off x="3543480" y="2530440"/>
            <a:ext cx="5600520" cy="4327560"/>
          </a:xfrm>
          <a:prstGeom prst="rect">
            <a:avLst/>
          </a:prstGeom>
          <a:ln w="0">
            <a:noFill/>
          </a:ln>
        </p:spPr>
      </p:pic>
      <p:cxnSp>
        <p:nvCxnSpPr>
          <p:cNvPr id="88" name="Straight Arrow Connector 9"/>
          <p:cNvCxnSpPr/>
          <p:nvPr/>
        </p:nvCxnSpPr>
        <p:spPr>
          <a:xfrm flipV="1">
            <a:off x="1011600" y="546120"/>
            <a:ext cx="2520" cy="26974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Straight Arrow Connector 10"/>
          <p:cNvCxnSpPr/>
          <p:nvPr/>
        </p:nvCxnSpPr>
        <p:spPr>
          <a:xfrm>
            <a:off x="1369800" y="545760"/>
            <a:ext cx="3097800" cy="2671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Straight Arrow Connector 11"/>
          <p:cNvCxnSpPr/>
          <p:nvPr/>
        </p:nvCxnSpPr>
        <p:spPr>
          <a:xfrm>
            <a:off x="4585320" y="946080"/>
            <a:ext cx="1080" cy="19389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milwaukee_huc_rain.jpg"/>
          <p:cNvPicPr/>
          <p:nvPr/>
        </p:nvPicPr>
        <p:blipFill>
          <a:blip r:embed="rId1"/>
          <a:srcRect l="12987" t="11467" r="21936" b="16722"/>
          <a:stretch/>
        </p:blipFill>
        <p:spPr>
          <a:xfrm>
            <a:off x="4591080" y="0"/>
            <a:ext cx="4552920" cy="650232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669960" y="403200"/>
            <a:ext cx="392112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ps to create figur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lect Polyg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lect Data S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lect Time Peri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lect Output O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n GeoDataPor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umulate GDP Outp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y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2"/>
          <a:stretch/>
        </p:blipFill>
        <p:spPr>
          <a:xfrm>
            <a:off x="212760" y="5802480"/>
            <a:ext cx="1828800" cy="739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>
            <a:off x="2736720" y="5554800"/>
            <a:ext cx="175284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266760" y="28440"/>
            <a:ext cx="8610480" cy="5854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066760" y="6118200"/>
            <a:ext cx="1828800" cy="73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3"/>
          <a:stretch/>
        </p:blipFill>
        <p:spPr>
          <a:xfrm>
            <a:off x="5397480" y="5883120"/>
            <a:ext cx="175248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6:03:39Z</dcterms:created>
  <dc:creator>David Blodgett</dc:creator>
  <dc:description/>
  <dc:language>en-US</dc:language>
  <cp:lastModifiedBy>Lewis McCulloch</cp:lastModifiedBy>
  <dcterms:modified xsi:type="dcterms:W3CDTF">2010-11-30T19:44:14Z</dcterms:modified>
  <cp:revision>6</cp:revision>
  <dc:subject/>
  <dc:title>Slide 1</dc:title>
</cp:coreProperties>
</file>